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1CD7-C023-42D7-AB20-4B788EEAA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1C6D-9CC4-4994-A31A-899887A85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E44F-C7D8-4598-A1A0-D670D5220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4D0A-5E43-475B-BA87-E27E721ED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EAB7-3D22-49EE-93C4-E1B879403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C24A-345F-4F35-979C-63F2A61CA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E2CE-57B1-48CC-B359-31E91DF57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4F8D-4182-4F0D-9805-35B883E37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B454-1CA7-4C93-9365-25A1236D6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638B-BBB1-432B-B0FE-E730D5F74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6BCB-05AC-4669-9C23-2C12C354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65EA-1FD6-42C0-8480-FB2251C7D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A88DB-EE85-4437-9C29-536C514702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1219320"/>
            <a:ext cx="12193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alogBuil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1676520" y="1523520"/>
            <a:ext cx="0" cy="4800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00200" y="1981080"/>
            <a:ext cx="152280" cy="4114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1219320"/>
            <a:ext cx="175284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ionLevelScan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581280" y="1523520"/>
            <a:ext cx="0" cy="4800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05320" y="2133720"/>
            <a:ext cx="152280" cy="2666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952880" y="1219320"/>
            <a:ext cx="14479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awlableData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5638680" y="1523520"/>
            <a:ext cx="0" cy="4800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62720" y="2666880"/>
            <a:ext cx="1522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52480" y="213372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52480" y="251460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8280" y="226836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Catalog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576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57600" y="29718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17680" y="2743200"/>
            <a:ext cx="122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stDatasets( filter 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657600" y="32767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89080" y="3048120"/>
            <a:ext cx="149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st {CrawlableDataset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010280" y="1219320"/>
            <a:ext cx="14479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Catal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7696080" y="1523520"/>
            <a:ext cx="0" cy="4800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20120" y="4038480"/>
            <a:ext cx="152280" cy="129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657600" y="403848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1752120" y="480060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11480" y="457200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Catalo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412960" y="228600"/>
            <a:ext cx="46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49200" y="152280"/>
            <a:ext cx="17517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st mod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 dependent on file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90720" y="152280"/>
            <a:ext cx="16761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nge stru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move catRe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lat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d leve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lat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1981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10920" y="1600200"/>
            <a:ext cx="933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dsSc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 CatG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609480" y="6095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240" y="57913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Catalo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0:06:18Z</dcterms:created>
  <dc:creator>Ethan Davis</dc:creator>
  <dc:description/>
  <dc:language>en-US</dc:language>
  <cp:lastModifiedBy>Ethan Davis</cp:lastModifiedBy>
  <dcterms:modified xsi:type="dcterms:W3CDTF">2005-11-10T00:28:19Z</dcterms:modified>
  <cp:revision>3</cp:revision>
  <dc:subject/>
  <dc:title>Slide 1</dc:title>
</cp:coreProperties>
</file>